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923088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9228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8"/>
          </p:nvPr>
        </p:nvSpPr>
        <p:spPr>
          <a:xfrm>
            <a:off x="3921120" y="-36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368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9"/>
          </p:nvPr>
        </p:nvSpPr>
        <p:spPr>
          <a:xfrm>
            <a:off x="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40"/>
          </p:nvPr>
        </p:nvSpPr>
        <p:spPr>
          <a:xfrm>
            <a:off x="3921120" y="8745120"/>
            <a:ext cx="29988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1C20-0B19-407A-AB6F-4C1FD581CF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2036-7283-48E2-9F07-D6EE4B9446F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ço Reservado para Número de Slide 3"/>
          <p:cNvSpPr/>
          <p:nvPr/>
        </p:nvSpPr>
        <p:spPr>
          <a:xfrm>
            <a:off x="3921120" y="874548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671C-69E1-4BDA-BEC0-2E6E9825EFE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8F76-AF15-4130-B9D5-30C878696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E254-7EFA-40B5-B936-4697C120A77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47C37-8D57-4760-BA84-12CE5AF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78F99-5AEA-445C-99B0-806F9EB6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B3956-4A2C-45BC-9A37-F8036D3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06DFE-7916-4540-9122-DC9AA9A9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2D165-26F9-4763-A119-0A010A8C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0DA04-92E5-4DBD-A22F-92C2829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6CBF9-F6DA-4564-9912-98F1369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DC70B-067B-4713-BD9A-52025616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D9A7C-3926-4C61-BA7A-EED69C82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785C0-9ABC-4F0B-8367-29EFA0DC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8E1A-4385-40AD-A4C4-F816F1ABEE6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62358-6FF4-4AAD-9A96-74ACEC02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E8FD5-CF35-4230-BA10-6FD4699B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F77D1-0DF9-4AC8-B6A3-8E050F6A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BE4B2-C590-451C-8667-A2B93B7D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39C91-2F98-4AE0-B131-AD306ADC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5DA11-47FD-4275-BECC-9A245EDA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3CCBA-DF81-436B-8F34-EE732517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D4706-5CD6-4BFE-BF65-4E701B84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1BC86-8DE2-41C5-9A76-63451A3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323E4-3F72-4DE7-9DD2-7A7D029C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20EF-69EB-4291-AB1C-0650A4775E4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8BA01-CB06-4895-AFD1-0AAA9352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127213-134D-4B79-A221-634FB2C5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75032E-F4A7-4CEE-B378-35722438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BD6B25-3389-4BA9-B9CC-25B2E03D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97A6B2-03EE-4B8B-9DA8-E8DB6D5D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A74B8E-B119-4023-B799-4286CEFA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93AEDC-9CF6-4043-89CA-BA5A3F7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160F80-06C0-4E1F-A83E-A06A40D7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F6F241-CBEF-4411-916F-25BEF022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53782B-E7A8-4A3E-833E-85D0681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7B339-8E86-4C1C-95C6-5637C0E9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365037-F76F-4DF2-8172-978A9E21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45444C-0339-481A-8625-C37F431C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51EAFC-6FEF-4EA7-B6C3-0E46CDE3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54CCC-03E8-41AC-B61E-37C9BFED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28E7D-807E-47D6-BA53-A9CD503D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AD238-4DF7-42B2-93DF-7005CF51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BA20B-470B-466E-8A47-45A368C7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CCA51-0C6E-4C71-8024-F7E49ECE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2F6E5-ABA9-4D79-A338-BA4C5260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30256-7544-482D-99D1-36B84A36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D37DD-6499-4A52-B456-AB71BCFC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9BE3E-3FB3-4F6B-8B16-0CC3D0C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52FDA-F208-4C1F-A940-04FF45BB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5EB95-61DB-4DBE-813D-26AEEA77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03952-0BEC-4324-BC09-33D7549D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2BCCE-D3D1-4AF2-8163-D2A2B89B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1AD256-A218-4FAF-BCB1-60EDA053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1652F8-7AAC-4363-9804-513D88C7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4EAC44-07A0-4168-9587-F6898F7B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A432B4-6F30-48EC-A974-0111F32B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2EC337-115D-45E6-A310-84A865D6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0AE53-1BF9-46A9-AD3F-FA8CC18E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6FC506-1E65-42F3-830A-7D2DAE40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728085-EE0F-40A3-A5A5-727BD11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BDC2DF-6144-4DA7-8AA9-86C87CF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3F128D-7917-4440-9EE6-EFBF3363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28DD26-9EED-4E4B-9EB5-09524C4E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BEF511-69B3-4614-A5AC-C696224B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E5CFF6-9B6B-45E6-9B3C-0A6B3C96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52BE3-B2CA-4F2A-A31F-09E617A0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A4757-9DE4-43C9-A3AE-1094C9DD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F22AC-6D8A-429B-95D8-8BFA7C95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1AC3F-3DCF-4B54-8033-B2A3DC28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B354-7031-439E-9055-FF722971F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D2615-05D6-439A-B871-4FB3D20A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3391F-8BF0-4782-BB6B-A3865566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797F9-6D25-464F-8B8E-6E2C1904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B2DA4-7CF0-486E-A49F-E8135F53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02514-42B5-4D6E-9932-6A21A70B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359C9-3532-4AF5-84D8-AE2BECFD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1A7F99-F140-4F4F-8984-AB7B007E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E6904-78B6-410B-8958-A55551F1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11C3D-33B9-4B54-A218-A3613FB0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150E14-AD76-4171-BA36-B1D61548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F320-F1A9-42B7-B6C0-763739F6E1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B236A-9321-4D7B-A1A2-3E4159CD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7D974-AD23-4014-BC55-C9BEBA5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146AC-5EF3-4E35-A900-8E5D64B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273CDF-5841-4905-8E76-79A2283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6007E-78AE-4A8A-A0B7-B7ADB6B9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2ADC7-F85C-4FBB-979E-C9E41350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50508-CF58-4CF8-8D60-CCDDFA7D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6E498-A6E1-4238-84A0-CF922FB7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84C4D-3773-418A-92D2-03C69346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FA829-0DA2-4539-9BF2-392FE29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7598-0CEC-4212-9061-891D629578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51DC3-D75F-430B-A863-32D76CC9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8D5CC-33C5-414F-A110-6976265E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15F2B-04D9-4B0D-AA60-D2A3EEF5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28EC3-B4D1-4C89-8AF3-5CA3040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F50D6-65F1-4381-9D33-73E76ECD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C0A54-6E97-402A-B8D8-A70D4F25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803906-015D-4DF4-B6F0-7A0ADC75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4A80D-DC09-49C1-99D6-A26904FC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DF77D-DED5-40F9-9C91-394903B7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EB804C-A31D-48D1-BF75-1CB42A74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B72E-6054-41AC-A8C4-53EF5FFD154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C8697B-6275-4DD3-B616-1F1DABC5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11306-6C23-41D7-ACB5-FD7936F1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C76364-492A-4C03-AF07-B22F6AAD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0DC013-1112-445F-9D7B-7F574C13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84B8D1-23E4-44AC-BAC0-C9F50E1A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EC6D6B-63DF-40D0-8917-234532D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79C892-2A52-4146-9625-A1D36E5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79636A-0272-4BA7-91C5-169C1325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702FFE-4B8C-47B2-96A4-8DA2521A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F2BD3-70F5-477C-BD0A-10E582FF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B686-E9F7-4AAC-8555-13333BCB51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649A11-9FCD-43BF-980C-E040CE0B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261725-6325-4702-B854-222BDFEF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4F495F-0803-4024-98F8-C8FA2615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D6D415-A9A1-4BCB-8EC1-7D1A7C50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29ABC8-1AE5-4CC1-A7DC-6104C20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A27A32-5423-40D6-B30C-3B55DEE0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0086EF-08D5-42BF-91EB-C137C3C0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F82DCE-6272-4534-89CB-426C0710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34BD14-2C51-4DE9-A5F8-19C49DB1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10EAC8-E260-45F0-9D48-B112AD4C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4625-C6C0-4CF6-9805-CAAF1FE4C9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DF9112-21E9-4D2D-BB7C-156C2151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11CE12-F350-48CB-AD87-0CCD596F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B37E64-6092-4288-A2E3-1D4B43AD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EE6C64-CCC9-4D02-BA81-09C3976F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39B229-ABF3-4ABD-BD58-47D42879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AB6388-3024-4445-BA90-3275889E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EC58B7-3283-42E6-8565-4BBBC434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41BEB4-F902-4932-8D4A-FDE22A24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0C6A28-9C4A-4E89-8F4B-17F81803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C6D646-35FB-4573-9F88-C5F9A39C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D0B6-399F-4B5C-AB7E-9BC1AF8275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2A136C-00C8-481E-B372-8C5EF79C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9DA374-6616-48AC-8A2B-CBF95627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B9970A-A9B3-4A32-8B98-3CC6A28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7463AC-9F37-48AD-A76D-69D71A30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04DC2A-1D75-4538-81E9-F65EC4D7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75BA3F-E928-420E-AEDC-5183C8EE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56D084-1DC0-45D7-9D39-0120E2E6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578322-542A-4A35-8287-7B447B6C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73894D-A9BF-4A13-AE23-34471882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1DA450-2245-47DC-85F6-8D9F5E7C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061B-1AB5-4012-9657-680FC96B20C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1C5A15-CA6E-41CF-8D89-1E1876D8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BA8F90-5AF0-4CBC-B5FF-3A06E0DD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0BD59A-EEDA-448A-A720-8C111889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14AA32-A591-4717-B475-86EF492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9E55C-5236-4A75-B7D4-B97F7DBD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57C2E6-0883-4ED8-8960-B7F742A2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621A63-0997-40E7-8C25-6238F0E8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EF837-4BCC-48E3-8256-94AA3F07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DFB70-3466-41AE-9A3A-FBBECE7C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F82E7-2168-42FC-B739-25DD8462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A4D0-58DF-400D-813F-0F38531B4FA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7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7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3FCD-04AF-456F-B89F-9C9D97A75EC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2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pic>
        <p:nvPicPr>
          <p:cNvPr id="422" name="Imagem 7" descr="template_ppt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6"/>
          <a:stretch/>
        </p:blipFill>
        <p:spPr>
          <a:xfrm>
            <a:off x="404640" y="236520"/>
            <a:ext cx="2667240" cy="536760"/>
          </a:xfrm>
          <a:prstGeom prst="rect">
            <a:avLst/>
          </a:prstGeom>
          <a:ln w="0">
            <a:noFill/>
          </a:ln>
        </p:spPr>
      </p:pic>
      <p:pic>
        <p:nvPicPr>
          <p:cNvPr id="424" name="Imagem 9" descr="malha_construtiva.jpg"/>
          <p:cNvPicPr/>
          <p:nvPr/>
        </p:nvPicPr>
        <p:blipFill>
          <a:blip r:embed="rId7"/>
          <a:stretch/>
        </p:blipFill>
        <p:spPr>
          <a:xfrm>
            <a:off x="7000920" y="357120"/>
            <a:ext cx="1852560" cy="4636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7C8C-290F-4B24-A444-B56324B7128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65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66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985F-24AC-4502-8168-937DBF6E6B7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7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508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3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01B4-3D9C-4694-83FA-93315C7451D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D2BF-B758-4405-BF44-1503864792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A376-920B-4762-8426-C8BF7E74618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0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A8C7-8F06-4A17-83A2-1E3B5E19DF2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A424-68BB-4D62-96B2-26D9D93E99D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4DA9-E32D-4478-BF9A-57314302989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160B-4BF8-484A-895A-E9C69BE6960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95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2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DC21-B1BE-4F31-BFA3-2F4DAE1B792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14376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37" name="Imagem 12" descr="Logo ANS_CMYK correto.png"/>
          <p:cNvPicPr/>
          <p:nvPr/>
        </p:nvPicPr>
        <p:blipFill>
          <a:blip r:embed="rId4"/>
          <a:stretch/>
        </p:blipFill>
        <p:spPr>
          <a:xfrm>
            <a:off x="7000920" y="6143760"/>
            <a:ext cx="1714320" cy="3445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5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8E0D-FE27-4999-AC95-DA05E62CCA1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etorica.labhackercd.net/dashboards/556c67d4986c856f65dba114" TargetMode="External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ainelsocial.labhackercd.net/panels/camara-dos-deputados" TargetMode="External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plicativos.gov.br/aplicativos/kosme/" TargetMode="External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play.google.com/store/apps/details?id=br.com.PartoHumanizado" TargetMode="External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4"/>
          <p:cNvSpPr/>
          <p:nvPr/>
        </p:nvSpPr>
        <p:spPr>
          <a:xfrm>
            <a:off x="36360" y="270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Imagem 14" descr="Sem Título-1.png"/>
          <p:cNvPicPr/>
          <p:nvPr/>
        </p:nvPicPr>
        <p:blipFill>
          <a:blip r:embed="rId1"/>
          <a:stretch/>
        </p:blipFill>
        <p:spPr>
          <a:xfrm>
            <a:off x="1227240" y="808200"/>
            <a:ext cx="7559640" cy="52416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26880" y="2420640"/>
            <a:ext cx="75279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06699"/>
                </a:solidFill>
                <a:latin typeface="HelveticaNeue Condensed"/>
              </a:rPr>
              <a:t>Hackathon AN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CaixaDeTexto 1"/>
          <p:cNvSpPr/>
          <p:nvPr/>
        </p:nvSpPr>
        <p:spPr>
          <a:xfrm>
            <a:off x="3132000" y="5589720"/>
            <a:ext cx="410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união – 02/05/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odu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No que se refere à salvaguarda dos direitos de propriedade intelectual, todos os participantes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cedem exclusivamente à Agência Nacional de Saúde Suplementar o código-fonte e o direito de us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os aplicativos desenvolvidos, de forma irrevogáv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participantes deverão apresentar à Comissão Organizadora um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Termo de Cessão de Direitos Autorais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 também um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Termo de Licença de Uso de Software/Aplicativ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conforme modelos a serem disponibilizad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projetos desenvolvidos nesta maratona serão apreciados pela Comissão Avaliadora, que é soberana, e elegerá o(s) projeto(s) vencedor(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os proje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s projetos serão avaliados com base em três critéri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NTERESSE PÚBLIC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: será avaliado o quanto o projeto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contribuirá para o desenvolvimento do setor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 saúde suplemen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RIATIVIDADE E INOVAÇÃO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: será avaliado o quanto o projeto contribuirá para experimentação de abordagens não convencionais para a solução de problema relevante, considerada a sua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Calibri"/>
              </a:rPr>
              <a:t>distinção entre as soluções alternativas já existente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QUALIDADE TÉCNICA: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erá avaliado o quanto o projeto atende aos seguintes parâmetros: a) usabilidade e acessibilidade; b) facilidade para ser compartilhado, copiado, alterado, remixado e executado por outras pessoas; c) estar devidamente documentado na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rêm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° colocado: R$ 10.0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° colocado: R$ 5.0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° colocado: R$ 2.500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ara o pagamento dos prêmios será aberto um chamamento público para que as instituições interessadas em financiar esse pagamento possam particip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Os gastos com a realização dos eventos presenciais será da ANS. Os participantes arcarão com despesas de transporte, hospedagem e alimentaçã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hamamento Públ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stituições que poderão participar: Organizações da Sociedade Civil, de acordo com a Lei  n° 13.019/2014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Serão selecionadas até 3 instituições através de sorte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Temas inicialmente propo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) utilização consciente do plano de saúd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) mobilidade dos dados clínicos do benefici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TROS PODERÃO SER DEFINIDOS PELA COMISSÃO ORGANIZAD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ronograma do Proje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539640" y="1268280"/>
          <a:ext cx="8064720" cy="4886280"/>
        </p:xfrm>
        <a:graphic>
          <a:graphicData uri="http://schemas.openxmlformats.org/drawingml/2006/table">
            <a:tbl>
              <a:tblPr/>
              <a:tblGrid>
                <a:gridCol w="260640"/>
                <a:gridCol w="3827160"/>
                <a:gridCol w="712800"/>
                <a:gridCol w="711360"/>
                <a:gridCol w="712800"/>
                <a:gridCol w="183996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</a:t>
                      </a:r>
                      <a:br>
                        <a:rPr sz="700"/>
                      </a:b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íc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Térmi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clusã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pela taref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1: Elaboração de Documen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a Nota Téc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Edital de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Termo de Cooper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Edital do Hackath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as minu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iana, Pedro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s das minu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2: Encaminhamentos intern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com GGE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ertura do processo administrativo e encaminhamento para a 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ção da 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ação da Comissão Organizadora (portaria no B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3 : Realização e divulgação do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a ficha de inscri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e chamamento público no DO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e chamamento público em jornal de grande circul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ções de divulgação do Chamamento Pú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da documentação de habilit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e result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de recur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 resultado dos recur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teio (se for o cas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, Eduardo, Miche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natura do Termo de Cooperaç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 Olivei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84360" y="1341360"/>
          <a:ext cx="7991280" cy="4608720"/>
        </p:xfrm>
        <a:graphic>
          <a:graphicData uri="http://schemas.openxmlformats.org/drawingml/2006/table">
            <a:tbl>
              <a:tblPr/>
              <a:tblGrid>
                <a:gridCol w="257040"/>
                <a:gridCol w="3794040"/>
                <a:gridCol w="704880"/>
                <a:gridCol w="706320"/>
                <a:gridCol w="704880"/>
                <a:gridCol w="1824120"/>
              </a:tblGrid>
              <a:tr h="257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</a:t>
                      </a:r>
                      <a:br>
                        <a:rPr sz="800"/>
                      </a:b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í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Térmi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clus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pela tare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4 : Organização e divulgação do Hackath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ação da Comissão Avaliadora (portaria no DO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, Mich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ão com as entidades parceiras para definição dos te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ha, Michelle,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ção da infraestrutura dos eventos inicial e final junto à COE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,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ção das palestras que ocorrerão no evento inic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elle, Leonardo, Edu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ção dos dados a serem divulgados (além do que já está no sit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ardo, Mich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ção do Termo de Cessão de Direitos Autorais e do Termo de Licença de Uso do Software/Aplicativ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Pedro, Adr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ção dos Termos pela PRO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ção do edital do Hackathon no D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 Fernan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ções de divulgação do Hackath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5 : Realização do Hackath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bimento e análise das incrições e documentos anex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 e seleção das propos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s selecion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o de abert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durante Desenvolvimento dos projetos pelos participa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ardo. Leonar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o final (apresentação dos protótip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rdo,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produtos e seleção dos vence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ssão Avaliad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ção dos vence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essa Carval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ronograma do Proje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etórica Parlamentar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iste na análise e visualização em forma de bolhas dos principais temas presentes nos pronunciamentos dos deputados brasileiros durante o pequeno expediente. Dentro de cada bolha, que corresponde a um tema, é possível verificar quais os deputados o abordaram nos seus discursos. Clicando em um deputado, é possível visualizar mais informações sobre e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inel Social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iste em um piloto para a visualização de informações legislativas e de redes sociais. O principal público alvo são os órgãos internos da Câmara dos Deputados, tais como Comissões e Lideranç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ítulo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OSME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portuniza a atividade da observação astronômica para ensinar e instigar sobre astronomia. Após observar o céu noturno, o usuário navega pelo mapa apontando o aparelho para os objetos astronômicos que observou para colecioná-los. Com um clique, ele pode adicionar anotações e fotos para documentar sua experiência. Em troca, recebe o sticker equivalente do astro, que pode ser colado dentro de sua respectiva coleção no álbum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Hackathon (Maratona Hacker) ANS: evento que reune </a:t>
            </a:r>
            <a:r>
              <a:rPr b="0" i="1" lang="pt-BR" sz="2200" spc="-1" strike="noStrike">
                <a:solidFill>
                  <a:srgbClr val="000000"/>
                </a:solidFill>
                <a:latin typeface="Calibri"/>
              </a:rPr>
              <a:t>hacker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programadores, desenvolvedores e inventores em geral, com o objetivo de promover o desenvolvimento de projetos que visem ao aumento da transparência na divulgação de informações públicas por meio de tecnologias digitai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rto Humanizado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raz informações sobre violência obstétrica, ajuda a criar um plano de parto e possui um mapa com indicação de doulas e grupos de apoio ao parto, amamentação e maternida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xemplos de Apps que surgiram em Hackathons da Administração Púb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ço Reservado para Número de Slide 4"/>
          <p:cNvSpPr/>
          <p:nvPr/>
        </p:nvSpPr>
        <p:spPr>
          <a:xfrm>
            <a:off x="533520" y="651996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567-8A2C-4D8C-856C-D5D2FC44913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360" y="119700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pt-BR" sz="4000" spc="-1" strike="noStrike">
                <a:solidFill>
                  <a:srgbClr val="006699"/>
                </a:solidFill>
                <a:latin typeface="HelveticaNeue Condensed"/>
              </a:rPr>
              <a:t>OBRIGADO!</a:t>
            </a:r>
            <a:br>
              <a:rPr sz="3200"/>
            </a:br>
            <a:br>
              <a:rPr sz="2800"/>
            </a:br>
            <a:br>
              <a:rPr sz="2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sultado da Maratona: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Calibri"/>
              </a:rPr>
              <a:t>soluções mobi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 ANS estabelecerá as finalidades desejadas das ferramentas que serão propostas pelos participantes. Podem-se criar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Calibri"/>
              </a:rPr>
              <a:t>linhas/temas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diferentes a serem escolhidos pelos inscrito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Hackathon 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ropostas de inscrição individual ou de equipes de, no máximo, 3 (três) componen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Formulário de inscrição:  proposta sucinta de projeto de desenvolvimento de solução </a:t>
            </a:r>
            <a:r>
              <a:rPr b="0" i="1" lang="pt-BR" sz="2600" spc="-1" strike="noStrike">
                <a:solidFill>
                  <a:srgbClr val="000000"/>
                </a:solidFill>
                <a:latin typeface="Calibri"/>
              </a:rPr>
              <a:t>mobile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que utilize, preferencialmente, dados da A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Total de pessoas selecionadas: 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is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68360" y="1244520"/>
          <a:ext cx="8229600" cy="424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ssão Organiz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ssão Avali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da por servidores e colaboradores do órgão, tanto das áreas relacionadas aos temas propostos, quanto das áreas de informação e T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da por profissionais reconhecidos nas áreas desejadas, além das áreas de transparência e desenvolvimento de aplicações web. É desejável que haja pelo menos 1 representante do órgão e 1 da W3C Brasil (entidade que defende os princípios da Internet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 o regul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ecia os projetos desenvolv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iona as pessoas para participarem d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 a infraestrutura d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ulga o ev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 a área no Por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missão Organizad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ASTEG (2 integrante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GEP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GERP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DES/ASSINF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ER/GCOM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ER/GPLA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GES/GGET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GES/GGAPI/GEQ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F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PRO; 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O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Avaliação das propos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ritérios a serem utilizados na avaliação das propost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INTERESSE PÚBLICO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erá avaliado se a propost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contribuirá para o desenvolvimento do setor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saúde suplement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RIATIVIDADE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será avaliado se a proposta apresentará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solução inovador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para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oblema relevant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ados a serem utiliz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ara o desenvolvimento das soluções propostas, deverão ser utilizados, preferencialmente,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dados disponíveis no Portal ANS,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 forma articulada com outros dados, quando necessár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utras bases de dados que os participantes julgarem necessárias poderão ser utiliz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mato do ev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averá um evento inicial (será transmitido via internet e a presença nele será facultativa) para apresentação dos temas, palestras 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onito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averá duas semanas para desenvolvimento (o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monitoring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correrá de forma virtual durante as duas seman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o último dia do evento, todos os projetos deverão ser apresentados na forma de protótipos. Cada apresentação terá duração máxima de 15 minu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Leonardo Fernandes Ferreira</cp:lastModifiedBy>
  <cp:lastPrinted>2015-08-17T20:27:35Z</cp:lastPrinted>
  <dcterms:modified xsi:type="dcterms:W3CDTF">2016-05-18T15:57:00Z</dcterms:modified>
  <cp:revision>427</cp:revision>
  <dc:subject/>
  <dc:title>Slide 1</dc:title>
</cp:coreProperties>
</file>